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588-235B-4EF2-B4D4-C088690F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020-2CEE-4C5F-B469-3858F495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95F-5338-43B7-89BE-B3F45E0F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CCE-B9F5-4997-A212-7B6C3947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971-5017-4F00-8AA2-31E12913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21D-6AF8-4848-A12D-95564E0B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A1F-4124-4552-A1F4-DABE335D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31B-FF5D-41E6-B126-CBBA4B61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A6B-A83A-47E5-89E0-2DCCAA86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E9B-E547-4BF9-8198-B377B069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7CC-6220-4578-9ECA-0E242CE1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AAD-5CDC-4C40-A65A-151D6E6F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926D-8358-42D8-879B-24CABBDB6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7:59:46Z</dcterms:created>
  <dc:creator>Debra Webb</dc:creator>
  <dc:description/>
  <dc:language>en-US</dc:language>
  <cp:lastModifiedBy>Debra Webb</cp:lastModifiedBy>
  <dcterms:modified xsi:type="dcterms:W3CDTF">2011-09-07T19:07:03Z</dcterms:modified>
  <cp:revision>3</cp:revision>
  <dc:subject/>
  <dc:title>Learning Data</dc:title>
</cp:coreProperties>
</file>